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0B921-0619-46B2-B9C5-1054FFA25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0FB0-1193-4E41-8E04-596DBA95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88A044-094F-40A2-A56B-1F5F81A871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65FDC4-3CE3-4AF1-9206-80E776BE5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5F42C6-C63A-4352-AD42-9D54137747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FD838-A250-4173-811C-A51820CA1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0BD71-F7C0-4659-8260-174BE84AC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2AE0CF-2C3F-4221-B94A-C5C645BD6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1986CD-1B27-4F09-B42E-320ECD271A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681B6F-3007-4816-B4D3-EA22ADAE3F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DB1800-7246-461A-A8B2-FAA4E2D870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4D75F-1483-4C28-AE73-AB7042783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F53D6-C3EB-4BA4-8319-10AC0CC3A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3A490-6334-4238-90BA-8088AC48E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E9A29-AD01-4F39-B77A-8025BBBA7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F955C-9DC2-4FF3-A128-37DC9513A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E3103-42AF-4271-B699-E56F576B4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BA63D-D06D-449A-8898-41901261F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CBC4A-5257-4084-A14B-4BA582E0F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E823-270A-4FB4-8CBE-1BE7795E8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C8D1-7B62-4113-AA3F-3B62D0B47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A87C8-B9F4-4C34-8B14-1BBCC6579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4625C-E4E6-42BF-836E-4A07621A8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B7F1D-79E4-4B69-AA58-75069ACAD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904DA-9DF8-4868-9676-4F43FE55F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E6B25-54AD-4666-B7AF-8EE4A68CF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01905-6E88-4A05-BE51-C1935B05E0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CBC64-CA4E-4A50-AC26-46AD21F53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4BD77-CF05-4550-8EB4-7CA47492D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ADD92-A66D-4ADB-9265-9C57E572C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E98EB-882D-47BF-AE01-7CD8A83D4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F66F-51C4-4F2E-A6F7-EC1E1084E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E1F9CD-BD9C-4DF2-BA89-2F709863B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6E938-7F04-4863-A222-1D7419B6A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7BE88-E0D7-4703-9C88-EC305E267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8CF17-08BE-461C-94CE-A52AD536E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62FD4-02E8-429B-BE13-BF4A90CE3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3EC516-10A8-4C2E-BCDC-D17575017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65D301-7F47-49B3-8063-9E3784F67D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654CDB-BBAB-456B-B54C-C875916CA0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74117-FFD1-4B26-BBBA-6868C6749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A2963-6B54-448E-BADB-54617163A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C464B-32B3-4B42-BCDA-3CA1425DB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F2A40-4C11-4497-8CBD-E01CBC6D6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6AD20-858D-4CC9-B38C-2E0D041AB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11120-A3D3-4512-8DA0-43975A0C7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33E97-D7E0-4F10-9223-55C904246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DFCBE-89EE-4002-BE46-AC1428349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3F266-7963-4E7B-80C9-EE9E33815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D5DFD7-9A38-4318-BC82-401B6B777C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449BF7-4D77-49A3-8BFA-2D80FF0B6B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40740E-7024-4C63-9EF1-8C533670A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C7EFB0-3D41-4253-ADA0-073146F93F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D7D3C-8E9C-41C3-A5F6-4B8E950FA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92646-21C6-40F2-B858-74F5737BB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DCB77-DC3D-4579-A604-4AF17B510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8CB74-237E-4DB5-9B80-46C767214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1477E-7DB8-4D9E-891C-D787D7DD9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3C450-7C75-492B-B7AA-48CDC7B70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BB7CF-5780-4FC8-B72F-E26082AE9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6D784-591E-4297-88A5-D22AAB13C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B1566-396B-462F-BCCC-A16F8E544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5566E-2E99-4F28-8DF5-B748F8DA1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8CC22-ADBD-4075-A427-13B1988FA8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24563-EEC2-4CF8-BCA0-99E6D6F26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67BE97-B785-4006-A354-C99954D05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3F61E9-D56D-4B87-A9F7-E6876508A9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2355D-DD4B-4E6A-B61D-8696FCF62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7BAB7-61B9-4F94-82DA-35D56E045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471B2-DA5E-4443-A749-D5F51FFBB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ADD76-6C90-4C2D-A97B-AB3A7669F9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202413-DF2D-4055-8FCA-94AA035B0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5B295-8DF2-4DA4-9ED8-C9B10510A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1B463-13CF-49CA-BA95-7988794F6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C2A87-D880-4BF5-94D0-B6ABE0C08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084C-50F5-49C3-B753-EE0FDB536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F2AA2-66FC-462C-8982-4CE943CC3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638DB3-8A54-48F0-8D40-FA797D422B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2F27B5-2B9B-4FB6-9D9F-260F18BBFD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6D0FEB-98AD-4633-A83F-5D0D79833F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4D95D8-524E-499D-AF01-809BF6AEF7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BEA932-9E97-4FBA-B09F-33D99006D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2DAE0B-C919-47AC-BF74-5CD81B940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87CCBA-9E79-4EE4-873E-715C9F55F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7E59E-E4AD-4D29-B5C1-386CF42CD9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F3A5D-3605-45D5-A561-C54D7ABA8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779A-F095-4DD2-893F-22782575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676E7-0BC2-499B-97FD-B8F19C522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4EDF9-BC52-4D9B-BAC0-329E1BCB7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507A3F-E8AA-4927-A70D-54BD99C17D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AFE759-919B-488D-8571-324BB93051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59FA79-4D23-4008-ADD2-7075F72FD9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55B540-DE51-4480-8614-3A135D0773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D6F79F-5116-4928-92D4-A69BAA3AFD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DAD8F-CE89-49FA-B519-21A73BD90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734D3D-9E42-46FE-BD88-4400DF0E15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7285F8-47B4-4BBC-A794-5C993609CD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7FE0-4F68-4834-BD97-B90FD754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8D397-E652-48B4-BF79-98F0F86CF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2B22C-6AC5-4D91-9C85-897C747FE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A9CCD-0549-41A2-BF3A-4E3DB54A3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130DA-751F-4FE5-9419-A352FB04B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3BCB4B-1EA6-4227-9192-2D88761DD0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CC96D6-3723-46DC-99B4-AFD2D14E88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9733B8-0F89-4491-9D09-107A3489D0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F405EC-84EF-4AD9-A8CC-062425FE5D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75067A-46AB-4A3D-B0EA-5CD105F010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0B4C17-A77C-4E6D-A743-FDA54E38E7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Łącznik prosty 6"/>
          <p:cNvGrpSpPr/>
          <p:nvPr/>
        </p:nvGrpSpPr>
        <p:grpSpPr>
          <a:xfrm>
            <a:off x="506520" y="1036800"/>
            <a:ext cx="8643960" cy="29880"/>
            <a:chOff x="506520" y="1036800"/>
            <a:chExt cx="8643960" cy="29880"/>
          </a:xfrm>
        </p:grpSpPr>
        <p:pic>
          <p:nvPicPr>
            <p:cNvPr id="1" name="Łącznik prosty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C639-120C-4496-9245-5144E406FF02}"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Łącznik prosty 8"/>
          <p:cNvGrpSpPr/>
          <p:nvPr/>
        </p:nvGrpSpPr>
        <p:grpSpPr>
          <a:xfrm>
            <a:off x="506520" y="1036800"/>
            <a:ext cx="8643960" cy="29880"/>
            <a:chOff x="506520" y="1036800"/>
            <a:chExt cx="8643960" cy="29880"/>
          </a:xfrm>
        </p:grpSpPr>
        <p:pic>
          <p:nvPicPr>
            <p:cNvPr id="9" name="Łącznik prosty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Łącznik prosty 11"/>
          <p:cNvGrpSpPr/>
          <p:nvPr/>
        </p:nvGrpSpPr>
        <p:grpSpPr>
          <a:xfrm>
            <a:off x="506520" y="1047600"/>
            <a:ext cx="8643960" cy="25560"/>
            <a:chOff x="506520" y="1047600"/>
            <a:chExt cx="8643960" cy="25560"/>
          </a:xfrm>
        </p:grpSpPr>
        <p:pic>
          <p:nvPicPr>
            <p:cNvPr id="12" name="Łącznik prosty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Łącznik prosty 12"/>
          <p:cNvGrpSpPr/>
          <p:nvPr/>
        </p:nvGrpSpPr>
        <p:grpSpPr>
          <a:xfrm>
            <a:off x="506520" y="5340240"/>
            <a:ext cx="8643960" cy="23760"/>
            <a:chOff x="506520" y="5340240"/>
            <a:chExt cx="8643960" cy="23760"/>
          </a:xfrm>
        </p:grpSpPr>
        <p:pic>
          <p:nvPicPr>
            <p:cNvPr id="51" name="Łącznik prosty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FF36-28BC-4981-98E6-730172A473E4}"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Łącznik prosty 6"/>
          <p:cNvGrpSpPr/>
          <p:nvPr/>
        </p:nvGrpSpPr>
        <p:grpSpPr>
          <a:xfrm>
            <a:off x="506520" y="1036800"/>
            <a:ext cx="8643960" cy="29880"/>
            <a:chOff x="506520" y="1036800"/>
            <a:chExt cx="8643960" cy="29880"/>
          </a:xfrm>
        </p:grpSpPr>
        <p:pic>
          <p:nvPicPr>
            <p:cNvPr id="95" name="Łącznik prosty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Łącznik prosty 8"/>
          <p:cNvGrpSpPr/>
          <p:nvPr/>
        </p:nvGrpSpPr>
        <p:grpSpPr>
          <a:xfrm>
            <a:off x="506520" y="1036800"/>
            <a:ext cx="8643960" cy="29880"/>
            <a:chOff x="506520" y="1036800"/>
            <a:chExt cx="8643960" cy="29880"/>
          </a:xfrm>
        </p:grpSpPr>
        <p:pic>
          <p:nvPicPr>
            <p:cNvPr id="98" name="Łącznik prosty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Łącznik prosty 11"/>
          <p:cNvGrpSpPr/>
          <p:nvPr/>
        </p:nvGrpSpPr>
        <p:grpSpPr>
          <a:xfrm>
            <a:off x="506520" y="1047600"/>
            <a:ext cx="8643960" cy="25560"/>
            <a:chOff x="506520" y="1047600"/>
            <a:chExt cx="8643960" cy="25560"/>
          </a:xfrm>
        </p:grpSpPr>
        <p:pic>
          <p:nvPicPr>
            <p:cNvPr id="101" name="Łącznik prosty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E24B-88D5-46A7-AD39-E0D7562236C1}"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Łącznik prosty 12"/>
          <p:cNvGrpSpPr/>
          <p:nvPr/>
        </p:nvGrpSpPr>
        <p:grpSpPr>
          <a:xfrm>
            <a:off x="506520" y="3432240"/>
            <a:ext cx="8643960" cy="23760"/>
            <a:chOff x="506520" y="3432240"/>
            <a:chExt cx="8643960" cy="23760"/>
          </a:xfrm>
        </p:grpSpPr>
        <p:pic>
          <p:nvPicPr>
            <p:cNvPr id="145" name="Łącznik prosty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7197-088C-4065-B925-42390A0FFC1F}" type="slidenum">
              <a:rPr b="0" lang="pl-PL"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Łącznik prosty 12"/>
          <p:cNvGrpSpPr/>
          <p:nvPr/>
        </p:nvGrpSpPr>
        <p:grpSpPr>
          <a:xfrm>
            <a:off x="506520" y="6010200"/>
            <a:ext cx="8643960" cy="25560"/>
            <a:chOff x="506520" y="6010200"/>
            <a:chExt cx="8643960" cy="25560"/>
          </a:xfrm>
        </p:grpSpPr>
        <p:pic>
          <p:nvPicPr>
            <p:cNvPr id="189" name="Łącznik prosty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DDFE-EC7A-4B30-8238-B02AFD79EB7D}"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C43F-BFA9-4E22-A306-E5DB27DE417D}"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Łącznik prosty 12"/>
          <p:cNvGrpSpPr/>
          <p:nvPr/>
        </p:nvGrpSpPr>
        <p:grpSpPr>
          <a:xfrm>
            <a:off x="506520" y="5840280"/>
            <a:ext cx="8643960" cy="24120"/>
            <a:chOff x="506520" y="5840280"/>
            <a:chExt cx="8643960" cy="24120"/>
          </a:xfrm>
        </p:grpSpPr>
        <p:pic>
          <p:nvPicPr>
            <p:cNvPr id="274" name="Łącznik prosty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8CA7-891D-4F05-94B6-393B5E9C537F}"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20EC-DAC3-4ADC-A038-D610B2E7F767}"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11F5-E6EE-4C06-819C-071B9C0BB44B}"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pl.wikipedia.org/wiki/Unia_Europejska" TargetMode="External"/><Relationship Id="rId2" Type="http://schemas.openxmlformats.org/officeDocument/2006/relationships/hyperlink" Target="http://pl.wikipedia.org/wiki/Karta_Praw_Podstawowych_Unii_Europejskiej"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94920" y="907560"/>
            <a:ext cx="8458200" cy="2211480"/>
          </a:xfrm>
          <a:prstGeom prst="rect">
            <a:avLst/>
          </a:prstGeom>
          <a:noFill/>
          <a:ln w="0">
            <a:noFill/>
          </a:ln>
        </p:spPr>
        <p:txBody>
          <a:bodyPr anchor="b">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Unicode MS"/>
                <a:ea typeface="Arial Unicode MS"/>
              </a:rPr>
              <a:t>RÓWNOŚĆ SZANS</a:t>
            </a:r>
            <a:endParaRPr b="0" lang="en-US" sz="5400" spc="-1" strike="noStrike">
              <a:solidFill>
                <a:srgbClr val="4e3b30"/>
              </a:solidFill>
              <a:latin typeface="Franklin Gothic Book"/>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Unicode MS"/>
                <a:ea typeface="Arial Unicode MS"/>
              </a:rPr>
              <a:t>RÓWNOŚĆ PŁCI</a:t>
            </a:r>
            <a:endParaRPr b="0" lang="en-US" sz="5400" spc="-1" strike="noStrike">
              <a:solidFill>
                <a:srgbClr val="4e3b30"/>
              </a:solidFill>
              <a:latin typeface="Franklin Gothic Book"/>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Unicode MS"/>
                <a:ea typeface="Arial Unicode MS"/>
              </a:rPr>
              <a:t>W EDUKACJI</a:t>
            </a:r>
            <a:endParaRPr b="0" lang="en-US" sz="5400" spc="-1" strike="noStrike">
              <a:solidFill>
                <a:srgbClr val="4e3b30"/>
              </a:solidFill>
              <a:latin typeface="Franklin Gothic Book"/>
            </a:endParaRPr>
          </a:p>
        </p:txBody>
      </p:sp>
      <p:pic>
        <p:nvPicPr>
          <p:cNvPr id="400" name="Picture 6" descr=""/>
          <p:cNvPicPr/>
          <p:nvPr/>
        </p:nvPicPr>
        <p:blipFill>
          <a:blip r:embed="rId1"/>
          <a:stretch/>
        </p:blipFill>
        <p:spPr>
          <a:xfrm>
            <a:off x="3492360" y="357336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24000" y="1125360"/>
            <a:ext cx="8686800" cy="452448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   </a:t>
            </a:r>
            <a:r>
              <a:rPr b="0" lang="pl-PL" sz="2400" spc="-1" strike="noStrike">
                <a:solidFill>
                  <a:srgbClr val="4e3b30"/>
                </a:solidFill>
                <a:latin typeface="Franklin Gothic Book"/>
              </a:rPr>
              <a:t>System ochrony praw człowieka w Unii Europejskiej, opiera się w dużej mierze na osiągnięciach ONZ i Rady Europy. </a:t>
            </a:r>
            <a:endParaRPr b="0" lang="en-US" sz="2400" spc="-1" strike="noStrike">
              <a:solidFill>
                <a:srgbClr val="4e3b30"/>
              </a:solidFill>
              <a:latin typeface="Franklin Gothic Book"/>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400" spc="-1" strike="noStrike">
                <a:solidFill>
                  <a:srgbClr val="4e3b30"/>
                </a:solidFill>
                <a:latin typeface="Franklin Gothic Book"/>
              </a:rPr>
              <a:t>Prawo każdej osoby do równości wobec prawa i ochrony przed dyskryminacją stanowi powszechne prawo, które jest uznane w następujących aktach, a których wszystkie państwa członkowskie Unii Europejskiej są sygnatariuszami:</a:t>
            </a:r>
            <a:endParaRPr b="0" lang="en-US" sz="24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Powszechna Deklaracja Praw Człowieka,</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Konwencja Narodów Zjednoczonych w sprawie likwidacji wszelkich form dyskryminacji kobiet,</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Międzynarodowa Konwencja w sprawie likwidacji wszelkich form dyskryminacji rasowej,</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Międzynarodowy Pakt Praw Gospodarczych, Społecznych i Kulturalnych</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Międzynarodowy Pakt Praw Obywatelskich i Politycznych,</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Europejska Konwencja o Ochronie Praw Człowieka i Podstawowych Wolności.</a:t>
            </a:r>
            <a:endParaRPr b="0" lang="en-US" sz="2000" spc="-1" strike="noStrike">
              <a:solidFill>
                <a:srgbClr val="4e3b30"/>
              </a:solidFill>
              <a:latin typeface="Franklin Gothic Book"/>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24000" y="765000"/>
            <a:ext cx="8496000" cy="554544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c00000"/>
                </a:solidFill>
                <a:latin typeface="Franklin Gothic Book"/>
              </a:rPr>
              <a:t>   </a:t>
            </a:r>
            <a:r>
              <a:rPr b="1" lang="pl-PL" sz="3300" spc="-1" strike="noStrike">
                <a:solidFill>
                  <a:srgbClr val="c00000"/>
                </a:solidFill>
                <a:latin typeface="Franklin Gothic Book"/>
              </a:rPr>
              <a:t>Dyskryminacja bezpośrednia </a:t>
            </a:r>
            <a:r>
              <a:rPr b="0" lang="pl-PL" sz="3000" spc="-1" strike="noStrike">
                <a:solidFill>
                  <a:srgbClr val="4e3b30"/>
                </a:solidFill>
                <a:latin typeface="Franklin Gothic Book"/>
              </a:rPr>
              <a:t>występuje w przypadku, gdy daną osobę traktuje się mniej korzystnie niż traktuje się, traktowano lub traktowano by inną osobę w porównywalnej sytuacji w szczególności ze względu na jej płeć, rasę, pochodzenie etniczne, narodowość, religię lub wyznanie, światopogląd, poglądy polityczne, niepełnosprawność, wiek, orientację seksualną, stan cywilny oraz rodzinny.</a:t>
            </a:r>
            <a:endParaRPr b="0" lang="en-US" sz="3000" spc="-1" strike="noStrike">
              <a:solidFill>
                <a:srgbClr val="4e3b30"/>
              </a:solidFill>
              <a:latin typeface="Franklin Gothic Book"/>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4e3b30"/>
                </a:solidFill>
                <a:latin typeface="Franklin Gothic Book"/>
              </a:rPr>
              <a:t>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68000" y="1268280"/>
            <a:ext cx="8351640" cy="452592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1" lang="pl-PL" sz="2800" spc="-1" strike="noStrike">
                <a:solidFill>
                  <a:srgbClr val="c00000"/>
                </a:solidFill>
                <a:latin typeface="Franklin Gothic Book"/>
              </a:rPr>
              <a:t>Dyskryminacja pośrednia </a:t>
            </a:r>
            <a:r>
              <a:rPr b="0" lang="pl-PL" sz="2800" spc="-1" strike="noStrike">
                <a:solidFill>
                  <a:srgbClr val="4e3b30"/>
                </a:solidFill>
                <a:latin typeface="Franklin Gothic Book"/>
              </a:rPr>
              <a:t>ma miejsce wtedy, kiedy pozornie neutralny przepis, kryterium lub działanie w praktyce powoduje niekorzystną sytuację dla osoby lub pewnej grupy osób w szczególności ze względu na płeć, rasę, pochodzenie etniczne, narodowość, religię lub wyznanie, światopogląd, poglądy polityczne, niepełnosprawność, wiek, orientację seksualną, stan cywilny oraz rodzinny w porównaniu z innymi osobami, nie jest prawnie i obiektywnie uzasadnione, a środki mające służyć osiągnięciu tego celu nie są właściwe i niezbędne.</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23640" y="1125360"/>
            <a:ext cx="8569080" cy="4524480"/>
          </a:xfrm>
          <a:prstGeom prst="rect">
            <a:avLst/>
          </a:prstGeom>
          <a:noFill/>
          <a:ln w="0">
            <a:noFill/>
          </a:ln>
        </p:spPr>
        <p:txBody>
          <a:bodyPr anchor="t">
            <a:normAutofit fontScale="87000"/>
          </a:bodyPr>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2800" spc="-1" strike="noStrike">
                <a:solidFill>
                  <a:srgbClr val="c00000"/>
                </a:solidFill>
                <a:latin typeface="Franklin Gothic Book"/>
              </a:rPr>
              <a:t>Dyskryminacja pozytywna </a:t>
            </a:r>
            <a:r>
              <a:rPr b="0" lang="pl-PL" sz="2800" spc="-1" strike="noStrike">
                <a:solidFill>
                  <a:srgbClr val="4e3b30"/>
                </a:solidFill>
                <a:latin typeface="Franklin Gothic Book"/>
              </a:rPr>
              <a:t>oznacza, że państwo stosuje pewne czasowe rozwiązania, podejmuje działania czy wprowadza określone środki prawne mające na celu wyrównanie szans osób należących do określonych grup mniejszościowych np. osób o innej narodowości, celem zmniejszenia faktycznych nierówności, których te osoby doświadczają. Dyskryminacja taka jest dozwolona, jednak może być stosowana wyłącznie w określonym czasie, gdyż może przerodzić się w dyskryminację osób należących do grup większościowych, wcześniej uprzywilejowanych</a:t>
            </a:r>
            <a:endParaRPr b="0" lang="en-US" sz="28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24000" y="1125360"/>
            <a:ext cx="8686800" cy="452448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Dyskryminacja , w zależności od obszaru, może przybierać różne formy, na przykład:</a:t>
            </a:r>
            <a:endParaRPr b="0" lang="en-US" sz="32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rasę i pochodzenie etniczne</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wiek</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niepełnosprawność</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religię, wyznanie, światopogląd</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orientację seksualną</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płeć</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24000" y="404280"/>
            <a:ext cx="8686800" cy="452628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3200" spc="-1" strike="noStrike">
                <a:solidFill>
                  <a:srgbClr val="c00000"/>
                </a:solidFill>
                <a:latin typeface="Franklin Gothic Book"/>
              </a:rPr>
              <a:t>Dyskryminacją jest również:</a:t>
            </a:r>
            <a:endParaRPr b="0" lang="en-US" sz="3200" spc="-1" strike="noStrike">
              <a:solidFill>
                <a:srgbClr val="4e3b30"/>
              </a:solidFill>
              <a:latin typeface="Franklin Gothic Book"/>
            </a:endParaRPr>
          </a:p>
          <a:p>
            <a:pPr marL="277560" indent="-2775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molestowanie oraz molestowanie seksualne, jak również wszelkie mniej korzystne traktowanie wynikające z odrzucenia lub podporządkowania się takiemu zachowaniu przez osobę, której ono dotyczy;</a:t>
            </a:r>
            <a:endParaRPr b="0" lang="en-US" sz="3200" spc="-1" strike="noStrike">
              <a:solidFill>
                <a:srgbClr val="4e3b30"/>
              </a:solidFill>
              <a:latin typeface="Franklin Gothic Book"/>
            </a:endParaRPr>
          </a:p>
          <a:p>
            <a:pPr marL="277560" indent="-2775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polecenie dyskryminowania osoby ze względu na płeć, czyli działanie polegające na zachęcaniu innej osoby do naruszenia zasady równego traktowania wszelkie mniej korzystne traktowanie kobiety związane z ciążą lub urlopem macierzyńskim</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259920"/>
            <a:ext cx="8507520" cy="6481800"/>
          </a:xfrm>
          <a:prstGeom prst="rect">
            <a:avLst/>
          </a:prstGeom>
          <a:noFill/>
          <a:ln w="0">
            <a:noFill/>
          </a:ln>
        </p:spPr>
        <p:txBody>
          <a:bodyPr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c00000"/>
                </a:solidFill>
                <a:latin typeface="Franklin Gothic Book"/>
              </a:rPr>
              <a:t>     </a:t>
            </a:r>
            <a:r>
              <a:rPr b="0" lang="pl-PL" sz="2700" spc="-1" strike="noStrike">
                <a:solidFill>
                  <a:srgbClr val="c00000"/>
                </a:solidFill>
                <a:latin typeface="Franklin Gothic Book"/>
              </a:rPr>
              <a:t>MOLESTOWANANIE SEKSUALNE jest nieakceptowane i niechciane i przybiera najczęściej postać:</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czynienia sugestii,</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domagania się lub proszenia o korzyści seksualne,</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flirtowania, które może być obraźliwe,</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sprośnych aluzji,</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czynienia propozycji.</a:t>
            </a: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c00000"/>
                </a:solidFill>
                <a:latin typeface="Franklin Gothic Book"/>
              </a:rPr>
              <a:t>    </a:t>
            </a:r>
            <a:r>
              <a:rPr b="0" lang="pl-PL" sz="2700" spc="-1" strike="noStrike">
                <a:solidFill>
                  <a:srgbClr val="c00000"/>
                </a:solidFill>
                <a:latin typeface="Franklin Gothic Book"/>
              </a:rPr>
              <a:t>Zachowaniami, które mają charakter molestowania są:</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insynuacje,</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niestosowne uwagi na temat wieku, ubioru, uczesania czy też sytuacji rodzinnej,</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obelgi i zniewagi,</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opowiadanie niestosownych dowcipów,</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niestosowne spojrzenia,</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prezentacja treści o charakterze pornograficznym itp.</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23640" y="549360"/>
            <a:ext cx="8351640" cy="4525920"/>
          </a:xfrm>
          <a:prstGeom prst="rect">
            <a:avLst/>
          </a:prstGeom>
          <a:noFill/>
          <a:ln w="0">
            <a:noFill/>
          </a:ln>
        </p:spPr>
        <p:txBody>
          <a:bodyPr anchor="t">
            <a:normAutofit fontScale="85000"/>
          </a:bodyPr>
          <a:p>
            <a:pPr marL="291600" indent="-291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1" lang="pl-PL" sz="2800" spc="-1" strike="noStrike">
                <a:solidFill>
                  <a:srgbClr val="c00000"/>
                </a:solidFill>
                <a:latin typeface="Franklin Gothic Book"/>
              </a:rPr>
              <a:t>Wykluczenie </a:t>
            </a:r>
            <a:endParaRPr b="0" lang="en-US" sz="2800" spc="-1" strike="noStrike">
              <a:solidFill>
                <a:srgbClr val="4e3b30"/>
              </a:solidFill>
              <a:latin typeface="Franklin Gothic Book"/>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0" lang="pl-PL" sz="2800" spc="-1" strike="noStrike">
                <a:solidFill>
                  <a:srgbClr val="000000"/>
                </a:solidFill>
                <a:latin typeface="Franklin Gothic Book"/>
              </a:rPr>
              <a:t>określa sytuację w której dana jednostka będąca członkiem społeczeństwa nie może normalnie uczestniczyć w działaniach obywateli tego społeczeństwa, przy czym ograniczenie to nie wynika z jej wewnętrznych przekonań, ale znajduję się poza kontrolą wykluczonej jednostki. Wykluczenie społeczne jest zjawiskiem wielowymiarowym i w praktyce oznacza niemożność uczestnictwa w życiu gospodarczym, politycznym jak i kulturowym, w wyniku braku dostępu do zasobów, dóbr i instytucji, ograniczenia praw społecznych oraz deprywacji potrzeb.</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250920" y="549360"/>
            <a:ext cx="8686800" cy="4525920"/>
          </a:xfrm>
          <a:prstGeom prst="rect">
            <a:avLst/>
          </a:prstGeom>
          <a:noFill/>
          <a:ln w="0">
            <a:noFill/>
          </a:ln>
        </p:spPr>
        <p:txBody>
          <a:bodyPr anchor="t">
            <a:normAutofit fontScale="84000"/>
          </a:bodyPr>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e3b30"/>
                </a:solidFill>
                <a:latin typeface="Franklin Gothic Book"/>
              </a:rPr>
              <a:t>   </a:t>
            </a:r>
            <a:r>
              <a:rPr b="1" lang="pl-PL" sz="2800" spc="-1" strike="noStrike">
                <a:solidFill>
                  <a:srgbClr val="c00000"/>
                </a:solidFill>
                <a:latin typeface="Franklin Gothic Book"/>
              </a:rPr>
              <a:t>Ubóstwo a wykluczenie społeczne .</a:t>
            </a:r>
            <a:endParaRPr b="0" lang="en-US" sz="2800" spc="-1" strike="noStrike">
              <a:solidFill>
                <a:srgbClr val="4e3b30"/>
              </a:solidFill>
              <a:latin typeface="Franklin Gothic Book"/>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endParaRPr b="0" lang="en-US" sz="2800" spc="-1" strike="noStrike">
              <a:solidFill>
                <a:srgbClr val="4e3b30"/>
              </a:solidFill>
              <a:latin typeface="Franklin Gothic Book"/>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0" lang="pl-PL" sz="2800" spc="-1" strike="noStrike">
                <a:solidFill>
                  <a:srgbClr val="000000"/>
                </a:solidFill>
                <a:latin typeface="Franklin Gothic Book"/>
              </a:rPr>
              <a:t>Często błędnie pojęciem wykluczenia społecznego utożsamia się z pojęciem ubóstwa. Mimo iż są to pojęcia pokrewne to wykluczenie społeczne jest pojęciem szerszym, gdyż oprócz niskich dochodów zwraca też uwagę na inne czynniki powodujące wyłączenie jednostek z funkcjonowania w życiu społecznym. Zależność między ubóstwem, a wykluczeniem społecznym może mieć charakter sprzężenia zwrotnego tzn. ubóstwo może powodować wykluczenie, ale i może być jego skutkiem. </a:t>
            </a:r>
            <a:endParaRPr b="0" lang="en-US" sz="2800" spc="-1" strike="noStrike">
              <a:solidFill>
                <a:srgbClr val="4e3b30"/>
              </a:solidFill>
              <a:latin typeface="Franklin Gothic Book"/>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50920" y="404280"/>
            <a:ext cx="8424720" cy="4526280"/>
          </a:xfrm>
          <a:prstGeom prst="rect">
            <a:avLst/>
          </a:prstGeom>
          <a:noFill/>
          <a:ln w="0">
            <a:noFill/>
          </a:ln>
        </p:spPr>
        <p:txBody>
          <a:bodyPr anchor="t">
            <a:normAutofit fontScale="76000"/>
          </a:bodyPr>
          <a:p>
            <a:pPr marL="260640" indent="-260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Stereotypy</a:t>
            </a:r>
            <a:r>
              <a:rPr b="1" lang="pl-PL" sz="2800" spc="-1" strike="noStrike">
                <a:solidFill>
                  <a:srgbClr val="c00000"/>
                </a:solidFill>
                <a:latin typeface="Franklin Gothic Book"/>
              </a:rPr>
              <a:t> </a:t>
            </a:r>
            <a:endParaRPr b="0" lang="en-US" sz="2800" spc="-1" strike="noStrike">
              <a:solidFill>
                <a:srgbClr val="4e3b30"/>
              </a:solidFill>
              <a:latin typeface="Franklin Gothic Book"/>
            </a:endParaRPr>
          </a:p>
          <a:p>
            <a:pPr marL="260640" indent="-260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800" spc="-1" strike="noStrike">
                <a:solidFill>
                  <a:srgbClr val="000000"/>
                </a:solidFill>
                <a:latin typeface="Franklin Gothic Book"/>
              </a:rPr>
              <a:t>konstrukcja myślowa, zawierająca komponent poznawczy (zwykle uproszczony), emocjonalny i behawioralny, zawierająca pewne fałszywe przeświadczenie, dotyczące różnych zjawisk, w tym innych grup społecznych. Stereotyp przyjęty może być przez jednostkę w wyniku własnych obserwacji, przejmowania poglądów innych osób, wzorców przekazywanych przez społeczeństwo, może być także wynikiem procesów emocjonalnych (na przykład przeniesienia agresji). Stereotypy mogą być negatywne, neutralne lub pozytywne, chociaż najczęściej spotyka się wyobrażenia negatywne</a:t>
            </a:r>
            <a:endParaRPr b="0" lang="en-US" sz="2800" spc="-1" strike="noStrike">
              <a:solidFill>
                <a:srgbClr val="4e3b30"/>
              </a:solidFill>
              <a:latin typeface="Franklin Gothic Book"/>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ytuł 1" descr=""/>
          <p:cNvPicPr/>
          <p:nvPr/>
        </p:nvPicPr>
        <p:blipFill>
          <a:blip r:embed="rId1"/>
          <a:stretch/>
        </p:blipFill>
        <p:spPr>
          <a:xfrm>
            <a:off x="133200" y="268200"/>
            <a:ext cx="8864640" cy="148752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polityki gender mainstrim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zjawiska wykluczenia społecznego , dyskryminacji,molestowania i mechanizmów wyrównywania sza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narzędzi do wprowadzenia gender mainstriming w szkol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ytuł 1" descr=""/>
          <p:cNvPicPr/>
          <p:nvPr/>
        </p:nvPicPr>
        <p:blipFill>
          <a:blip r:embed="rId1"/>
          <a:stretch/>
        </p:blipFill>
        <p:spPr>
          <a:xfrm>
            <a:off x="103320" y="433440"/>
            <a:ext cx="10753560" cy="1487520"/>
          </a:xfrm>
          <a:prstGeom prst="rect">
            <a:avLst/>
          </a:prstGeom>
          <a:ln w="0">
            <a:noFill/>
          </a:ln>
        </p:spPr>
      </p:pic>
      <p:sp>
        <p:nvSpPr>
          <p:cNvPr id="423" name=""/>
          <p:cNvSpPr txBox="1"/>
          <p:nvPr/>
        </p:nvSpPr>
        <p:spPr>
          <a:xfrm>
            <a:off x="684360" y="1773360"/>
            <a:ext cx="770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Zwrócić uwagę na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miejsce zamieszkania uczniów</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Dni w których mają się odbywać zajęci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Godziny w jakich będą odbywać się zajęcia pozalekcyjn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Czy informacja dotarła zarówno do dziewcząt i chłopców</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475920"/>
            <a:ext cx="7920000" cy="5473800"/>
          </a:xfrm>
          <a:prstGeom prst="rect">
            <a:avLst/>
          </a:prstGeom>
          <a:noFill/>
          <a:ln w="0">
            <a:noFill/>
          </a:ln>
        </p:spPr>
        <p:txBody>
          <a:bodyPr anchor="t">
            <a:normAutofit fontScale="98000"/>
          </a:bodyPr>
          <a:p>
            <a:pPr marL="504000" indent="-504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III.   RÓWNOŚC SZANS I PŁCI                                W PROGRAMACH NAUCZANIA </a:t>
            </a:r>
            <a:br>
              <a:rPr sz="3200"/>
            </a:br>
            <a:endParaRPr b="0" lang="en-US" sz="3200" spc="-1" strike="noStrike">
              <a:solidFill>
                <a:srgbClr val="4e3b30"/>
              </a:solidFill>
              <a:latin typeface="Franklin Gothic Book"/>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e3b30"/>
                </a:solidFill>
                <a:uFillTx/>
                <a:latin typeface="Franklin Gothic Book"/>
              </a:rPr>
              <a:t>Nierówność - edukacja</a:t>
            </a:r>
            <a:endParaRPr b="0" lang="en-US" sz="2400" spc="-1" strike="noStrike">
              <a:solidFill>
                <a:srgbClr val="4e3b30"/>
              </a:solidFill>
              <a:latin typeface="Franklin Gothic Book"/>
            </a:endParaRPr>
          </a:p>
          <a:p>
            <a:pPr marL="504000" indent="-5040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Stereotypowy przekaz dotyczący kobiet/dziewczynek i mężczyzn/chłopców w programach nauczania (wzmacnianie tradycyjnych ról płci, wzmacnianie mitów na temat zdolności, możliwości, zainteresowań, predyspozycji dziewcząt/kobiet, chłopców/mężczyzn),  </a:t>
            </a:r>
            <a:endParaRPr b="0" lang="en-US" sz="2400" spc="-1" strike="noStrike">
              <a:solidFill>
                <a:srgbClr val="4e3b30"/>
              </a:solidFill>
              <a:latin typeface="Franklin Gothic Book"/>
            </a:endParaRPr>
          </a:p>
          <a:p>
            <a:pPr marL="504000" indent="-5040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400" spc="-1" strike="noStrike">
                <a:solidFill>
                  <a:srgbClr val="4e3b30"/>
                </a:solidFill>
                <a:latin typeface="Franklin Gothic Book"/>
              </a:rPr>
              <a:t>Obecność stereotypów płci w doradztwie zawodowym</a:t>
            </a:r>
            <a:endParaRPr b="0" lang="en-US" sz="2400" spc="-1" strike="noStrike">
              <a:solidFill>
                <a:srgbClr val="4e3b30"/>
              </a:solidFill>
              <a:latin typeface="Franklin Gothic Book"/>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400" spc="-1" strike="noStrike">
                <a:solidFill>
                  <a:srgbClr val="4e3b30"/>
                </a:solidFill>
                <a:latin typeface="Franklin Gothic Book"/>
              </a:rPr>
              <a:t>skierowanym do dziewczynek i chłopców,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68000" y="981000"/>
            <a:ext cx="8280360" cy="4525920"/>
          </a:xfrm>
          <a:prstGeom prst="rect">
            <a:avLst/>
          </a:prstGeom>
          <a:noFill/>
          <a:ln w="0">
            <a:noFill/>
          </a:ln>
        </p:spPr>
        <p:txBody>
          <a:bodyPr anchor="t">
            <a:normAutofit fontScale="82000"/>
          </a:bodyPr>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i odsetek dziewcząt i kobiet w kształceniu z zakresu technologii informacyjno-komunikacyjnych, na kierunkach ścisłych, związanych z naukami przyrodniczymi i ma tematycznymi,  </a:t>
            </a:r>
            <a:endParaRPr b="0" lang="en-US" sz="2400" spc="-1" strike="noStrike">
              <a:solidFill>
                <a:srgbClr val="4e3b30"/>
              </a:solidFill>
              <a:latin typeface="Franklin Gothic Book"/>
            </a:endParaRPr>
          </a:p>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rozwiązań edukacyjnych skierowanych do chłopców i dziewcząt związanych z zapobieganiem przemocy i obroną przed przemocą,  </a:t>
            </a:r>
            <a:endParaRPr b="0" lang="en-US" sz="2400" spc="-1" strike="noStrike">
              <a:solidFill>
                <a:srgbClr val="4e3b30"/>
              </a:solidFill>
              <a:latin typeface="Franklin Gothic Book"/>
            </a:endParaRPr>
          </a:p>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Znikoma obecność w programach nauczania tematów związanych z równością, emancypacją, prawami człowieka, w tym prawami kobiet, przeciwdziałaniem dyskryminacji,  </a:t>
            </a:r>
            <a:endParaRPr b="0" lang="en-US" sz="2400" spc="-1" strike="noStrike">
              <a:solidFill>
                <a:srgbClr val="4e3b30"/>
              </a:solidFill>
              <a:latin typeface="Franklin Gothic Book"/>
            </a:endParaRPr>
          </a:p>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odzwierciedlania w programach nauczania rzeczywistego zróżnicowania społecznego (ze względu na niepełnosprawność, pochodzenie etniczne, wyznanie, orientacje seksualną, model rodziny itp.),</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24000" y="1052640"/>
            <a:ext cx="8686800" cy="4525920"/>
          </a:xfrm>
          <a:prstGeom prst="rect">
            <a:avLst/>
          </a:prstGeom>
          <a:noFill/>
          <a:ln w="0">
            <a:noFill/>
          </a:ln>
        </p:spPr>
        <p:txBody>
          <a:bodyPr anchor="t">
            <a:normAutofit fontScale="99000"/>
          </a:bodyPr>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i udział mężczyzn nauczycieli w edukacji przedszkolnej i wczesnoszkolnej,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i udział kobiet na stanowiskach decyzyjnych w obszarze edukacji,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euwzględnianie kategorii płci w diagnozowaniu potrzeb edukacyjnych w obszarze szkolnictwa zawodowego,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dokładnych danych dotyczących płci i zatrudnienia w sektorze edukacji i zarządzaniu oświatą,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danych dotyczących uczestnictwa chłopców i dziewcząt w zajęciach wyrównawczych i zajęciach dodatkowych.</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ytuł 1" descr=""/>
          <p:cNvPicPr/>
          <p:nvPr/>
        </p:nvPicPr>
        <p:blipFill>
          <a:blip r:embed="rId1"/>
          <a:stretch/>
        </p:blipFill>
        <p:spPr>
          <a:xfrm>
            <a:off x="317520" y="433440"/>
            <a:ext cx="8697960" cy="1487520"/>
          </a:xfrm>
          <a:prstGeom prst="rect">
            <a:avLst/>
          </a:prstGeom>
          <a:ln w="0">
            <a:noFill/>
          </a:ln>
        </p:spPr>
      </p:pic>
      <p:sp>
        <p:nvSpPr>
          <p:cNvPr id="428" name=""/>
          <p:cNvSpPr txBox="1"/>
          <p:nvPr/>
        </p:nvSpPr>
        <p:spPr>
          <a:xfrm>
            <a:off x="323640" y="1844640"/>
            <a:ext cx="835164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Zwracając się do klasy unikaj zwrotów tylko do jednej płci</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taraj się stosować przykłady odbiegające od stereotypów</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Jeśli jest możliwość stosuj zamiennie i pytaj raz chłopca innym razem dziewczynę,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taraj się zwracać uwagę w taki sam sposób i tyle razy do każdej osoby nie stosuj ulg.</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250560" y="2133720"/>
            <a:ext cx="8497800" cy="4525920"/>
          </a:xfrm>
          <a:prstGeom prst="rect">
            <a:avLst/>
          </a:prstGeom>
          <a:noFill/>
          <a:ln w="0">
            <a:noFill/>
          </a:ln>
        </p:spPr>
        <p:txBody>
          <a:bodyPr anchor="t">
            <a:normAutofit fontScale="93000"/>
          </a:bodyPr>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Zachęcają dziewczęta do nauk ścisłych</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Pokazują zaangażowanie kobiet w życie polityczne i społeczne. Prezentują biografie wybitnych kobiet.</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Mówią pozytywnie o dostępie dla kobiet do rynku pracy, władzy i prestiżu</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Objaśniają czym jest przemoc np.ze wzgl. na płeć, </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ą pisane niemal wyłącznie w męskim rodzaju gramatycznym np., „drogi czytelniku”, „omów z kolegą”</a:t>
            </a:r>
            <a:endParaRPr b="0" lang="en-US" sz="2800" spc="-1" strike="noStrike">
              <a:solidFill>
                <a:srgbClr val="4e3b30"/>
              </a:solidFill>
              <a:latin typeface="Franklin Gothic Book"/>
            </a:endParaRPr>
          </a:p>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30" name="Tytuł 1" descr=""/>
          <p:cNvPicPr/>
          <p:nvPr/>
        </p:nvPicPr>
        <p:blipFill>
          <a:blip r:embed="rId1"/>
          <a:stretch/>
        </p:blipFill>
        <p:spPr>
          <a:xfrm>
            <a:off x="182520" y="152280"/>
            <a:ext cx="8869320" cy="215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920" y="1554120"/>
            <a:ext cx="8686800" cy="4525920"/>
          </a:xfrm>
          <a:prstGeom prst="rect">
            <a:avLst/>
          </a:prstGeom>
          <a:noFill/>
          <a:ln w="0">
            <a:noFill/>
          </a:ln>
        </p:spPr>
        <p:txBody>
          <a:bodyPr anchor="t">
            <a:normAutofit fontScale="89000"/>
          </a:bodyPr>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Promują zasadę równości płci, w sposób wyważony i adekwatny do wieku uczniów, wkład kobiet i mężczyzn w życie rodzinne, społeczne teraz i w przeszłości</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Odzwierciedlają różnorodne, zaczerpnięte z życia osobistego, rodzinnego, zawodowego i społecznego doświadczenia dziewcząt i chłopców, kobiet i mężczyzn z różnych grup etnicznych, wyznaniowych i społecznych</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ą wolne od stereotypów</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Upowszechnienie problematyki równości i tolerancji wśród uczniów</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04920" y="1554120"/>
            <a:ext cx="8686800" cy="452592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Konwencja praw człowieka i podstawowych wolności art.5, przewiduje, że: „ Państwa –Strony podejmuję wszelkie odpowiednie środki, aby : zmienić społeczne i kulturowe wzorce zachowań mężczyzn i kobiet w celu likwidacji przesądów i zwyczajów oraz wszelkich innych praktyk, które opierają się na przekonaniu o niższości lub wyższości jednej z płci albo na stereotypach roli mężczyzn i kobie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ytuł 1" descr=""/>
          <p:cNvPicPr/>
          <p:nvPr/>
        </p:nvPicPr>
        <p:blipFill>
          <a:blip r:embed="rId1"/>
          <a:stretch/>
        </p:blipFill>
        <p:spPr>
          <a:xfrm>
            <a:off x="103320" y="450720"/>
            <a:ext cx="8894520" cy="1152720"/>
          </a:xfrm>
          <a:prstGeom prst="rect">
            <a:avLst/>
          </a:prstGeom>
          <a:ln w="0">
            <a:noFill/>
          </a:ln>
        </p:spPr>
      </p:pic>
      <p:sp>
        <p:nvSpPr>
          <p:cNvPr id="435" name=""/>
          <p:cNvSpPr txBox="1"/>
          <p:nvPr/>
        </p:nvSpPr>
        <p:spPr>
          <a:xfrm>
            <a:off x="250920" y="1268280"/>
            <a:ext cx="8686800" cy="4525920"/>
          </a:xfrm>
          <a:prstGeom prst="rect">
            <a:avLst/>
          </a:prstGeom>
          <a:noFill/>
          <a:ln w="0">
            <a:noFill/>
          </a:ln>
        </p:spPr>
        <p:txBody>
          <a:bodyPr anchor="t">
            <a:normAutofit fontScale="83000"/>
          </a:bodyPr>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Głęboka izolacja i lęk przed ujawnieniem utrudniają osiągnięcie celów rozwojowych związanych z samooceną, tożsamością, bliskością</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a motywacja do nauki </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arażenie na molestowanie i przemoc(45%gejów, 20%lesbijek- przemoc fizyczna i werbalna w szkole)</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Istnieje większe ryzyko przerwania nauki, narażenia na przemoc w rodzinie, życia na ulicy-prób przetrwania, uzależnień, niepożądanych kontaktów seksualnych itp.</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Częstsze próby samobójcze(2-7 razy częściej i 2-4 razy częściej są atakowane z użyciem broni)</a:t>
            </a:r>
            <a:endParaRPr b="0" lang="en-US" sz="2400" spc="-1" strike="noStrike">
              <a:solidFill>
                <a:srgbClr val="4e3b30"/>
              </a:solidFill>
              <a:latin typeface="Franklin Gothic Book"/>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e3b30"/>
                </a:solidFill>
                <a:latin typeface="Franklin Gothic Book"/>
              </a:rPr>
              <a:t>    </a:t>
            </a:r>
            <a:r>
              <a:rPr b="1" lang="pl-PL" sz="2400" spc="-1" strike="noStrike">
                <a:solidFill>
                  <a:srgbClr val="4e3b30"/>
                </a:solidFill>
                <a:latin typeface="Franklin Gothic Book"/>
              </a:rPr>
              <a:t>Istotne jest by wiązać te zjawiska z przemocą, stresem, brakiem wsparcia i odrzuceniem, problemami w rodzinie i szkole, bezdomnością-ucieczkami</a:t>
            </a:r>
            <a:r>
              <a:rPr b="0" lang="pl-PL" sz="2400" spc="-1" strike="noStrike">
                <a:solidFill>
                  <a:srgbClr val="4e3b30"/>
                </a:solidFill>
                <a:latin typeface="Franklin Gothic Book"/>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ytuł 1" descr=""/>
          <p:cNvPicPr/>
          <p:nvPr/>
        </p:nvPicPr>
        <p:blipFill>
          <a:blip r:embed="rId1"/>
          <a:stretch/>
        </p:blipFill>
        <p:spPr>
          <a:xfrm>
            <a:off x="298440" y="450720"/>
            <a:ext cx="8699400" cy="1152720"/>
          </a:xfrm>
          <a:prstGeom prst="rect">
            <a:avLst/>
          </a:prstGeom>
          <a:ln w="0">
            <a:noFill/>
          </a:ln>
        </p:spPr>
      </p:pic>
      <p:sp>
        <p:nvSpPr>
          <p:cNvPr id="437" name=""/>
          <p:cNvSpPr txBox="1"/>
          <p:nvPr/>
        </p:nvSpPr>
        <p:spPr>
          <a:xfrm>
            <a:off x="179280" y="1557360"/>
            <a:ext cx="8686800" cy="452592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Nikt nie rodzi się z uprzedzeniami„</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 Szkoła bez przemocy”</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Każdy inni - wszyscy równi</a:t>
            </a:r>
            <a:r>
              <a:rPr b="0" lang="pl-PL" sz="3600" spc="-1" strike="noStrike">
                <a:solidFill>
                  <a:srgbClr val="000000"/>
                </a:solidFill>
                <a:latin typeface="Franklin Gothic Book"/>
              </a:rPr>
              <a:t>”</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Jestem Polką/Jestem Polakiem”</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ytuł 1" descr=""/>
          <p:cNvPicPr/>
          <p:nvPr/>
        </p:nvPicPr>
        <p:blipFill>
          <a:blip r:embed="rId1"/>
          <a:stretch/>
        </p:blipFill>
        <p:spPr>
          <a:xfrm>
            <a:off x="554040" y="450720"/>
            <a:ext cx="8443800" cy="1152720"/>
          </a:xfrm>
          <a:prstGeom prst="rect">
            <a:avLst/>
          </a:prstGeom>
          <a:ln w="0">
            <a:noFill/>
          </a:ln>
        </p:spPr>
      </p:pic>
      <p:sp>
        <p:nvSpPr>
          <p:cNvPr id="404" name=""/>
          <p:cNvSpPr txBox="1"/>
          <p:nvPr/>
        </p:nvSpPr>
        <p:spPr>
          <a:xfrm>
            <a:off x="324000" y="1844640"/>
            <a:ext cx="86868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1. Definicje:</a:t>
            </a:r>
            <a:r>
              <a:rPr b="0" i="1" lang="pl-PL" sz="3200" spc="-1" strike="noStrike" u="sng">
                <a:solidFill>
                  <a:srgbClr val="000000"/>
                </a:solidFill>
                <a:uFillTx/>
                <a:latin typeface="Franklin Gothic Book"/>
              </a:rPr>
              <a:t> gender  mainstriming , dyskryminacja, wykluczenie, molestowanie, stereotypy</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2. Równość szans i płci </a:t>
            </a:r>
            <a:r>
              <a:rPr b="0" i="1" lang="pl-PL" sz="3200" spc="-1" strike="noStrike" u="sng">
                <a:solidFill>
                  <a:srgbClr val="000000"/>
                </a:solidFill>
                <a:uFillTx/>
                <a:latin typeface="Franklin Gothic Book"/>
              </a:rPr>
              <a:t>w zajęciach pozalekcyjnych</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3. Równość szans i płci </a:t>
            </a:r>
            <a:r>
              <a:rPr b="0" i="1" lang="pl-PL" sz="3200" spc="-1" strike="noStrike" u="sng">
                <a:solidFill>
                  <a:srgbClr val="000000"/>
                </a:solidFill>
                <a:uFillTx/>
                <a:latin typeface="Franklin Gothic Book"/>
              </a:rPr>
              <a:t>w podręcznikach</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4. Równość szans i płci </a:t>
            </a:r>
            <a:r>
              <a:rPr b="0" i="1" lang="pl-PL" sz="3200" spc="-1" strike="noStrike" u="sng">
                <a:solidFill>
                  <a:srgbClr val="000000"/>
                </a:solidFill>
                <a:uFillTx/>
                <a:latin typeface="Franklin Gothic Book"/>
              </a:rPr>
              <a:t>podczas prowadzenia lekcji</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e3b30"/>
                </a:solidFill>
                <a:latin typeface="Arial Unicode MS"/>
                <a:ea typeface="Arial Unicode MS"/>
              </a:rPr>
              <a:t>   </a:t>
            </a:r>
            <a:r>
              <a:rPr b="0" lang="pl-PL" sz="3200" spc="-1" strike="noStrike">
                <a:solidFill>
                  <a:srgbClr val="4e3b30"/>
                </a:solidFill>
                <a:latin typeface="Arial Unicode MS"/>
                <a:ea typeface="Arial Unicode MS"/>
              </a:rPr>
              <a:t>„</a:t>
            </a:r>
            <a:r>
              <a:rPr b="0" lang="pl-PL" sz="3200" spc="-1" strike="noStrike">
                <a:solidFill>
                  <a:srgbClr val="4e3b30"/>
                </a:solidFill>
                <a:latin typeface="Arial Unicode MS"/>
                <a:ea typeface="Arial Unicode MS"/>
              </a:rPr>
              <a:t>Uczymy się być rasistami, to znaczy że możemy się również nauczyć</a:t>
            </a:r>
            <a:br>
              <a:rPr sz="3200"/>
            </a:br>
            <a:r>
              <a:rPr b="0" lang="pl-PL" sz="3200" spc="-1" strike="noStrike">
                <a:solidFill>
                  <a:srgbClr val="4e3b30"/>
                </a:solidFill>
                <a:latin typeface="Arial Unicode MS"/>
                <a:ea typeface="Arial Unicode MS"/>
              </a:rPr>
              <a:t>jak nimi nie być. Rasizm nie jest genetyczny. To wszystko kwestia władzy”</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Arial Unicode MS"/>
                <a:ea typeface="Arial Unicode MS"/>
              </a:rPr>
              <a:t> </a:t>
            </a:r>
            <a:r>
              <a:rPr b="0" i="1" lang="pl-PL" sz="3200" spc="-1" strike="noStrike">
                <a:solidFill>
                  <a:srgbClr val="4e3b30"/>
                </a:solidFill>
                <a:latin typeface="Arial Unicode MS"/>
                <a:ea typeface="Arial Unicode MS"/>
              </a:rPr>
              <a:t>Jane Elliot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79280" y="1125360"/>
            <a:ext cx="8686800" cy="452448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4e3b30"/>
                </a:solidFill>
                <a:latin typeface="Franklin Gothic Book"/>
              </a:rPr>
              <a:t>DZIĘKUJĘ</a:t>
            </a:r>
            <a:endParaRPr b="0" lang="en-US" sz="8000" spc="-1" strike="noStrike">
              <a:solidFill>
                <a:srgbClr val="4e3b3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4e3b30"/>
                </a:solidFill>
                <a:latin typeface="Franklin Gothic Book"/>
              </a:rPr>
              <a:t> </a:t>
            </a:r>
            <a:r>
              <a:rPr b="1" lang="pl-PL" sz="8000" spc="-1" strike="noStrike">
                <a:solidFill>
                  <a:srgbClr val="4e3b30"/>
                </a:solidFill>
                <a:latin typeface="Franklin Gothic Book"/>
              </a:rPr>
              <a:t>ZA </a:t>
            </a:r>
            <a:endParaRPr b="0" lang="en-US" sz="8000" spc="-1" strike="noStrike">
              <a:solidFill>
                <a:srgbClr val="4e3b3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4e3b30"/>
                </a:solidFill>
                <a:latin typeface="Franklin Gothic Book"/>
              </a:rPr>
              <a:t>UWAGĘ</a:t>
            </a:r>
            <a:endParaRPr b="0" lang="en-US" sz="8000" spc="-1" strike="noStrike">
              <a:solidFill>
                <a:srgbClr val="4e3b30"/>
              </a:solidFill>
              <a:latin typeface="Franklin Gothic Book"/>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95280" y="1197000"/>
            <a:ext cx="842472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3200" spc="-1" strike="noStrike">
                <a:solidFill>
                  <a:srgbClr val="c00000"/>
                </a:solidFill>
                <a:latin typeface="Franklin Gothic Book"/>
              </a:rPr>
              <a:t>Gender -</a:t>
            </a:r>
            <a:r>
              <a:rPr b="0" i="1" lang="pl-PL" sz="3200" spc="-1" strike="noStrike">
                <a:solidFill>
                  <a:srgbClr val="000000"/>
                </a:solidFill>
                <a:latin typeface="Franklin Gothic Book"/>
              </a:rPr>
              <a:t>rodzaj</a:t>
            </a:r>
            <a:r>
              <a:rPr b="0" lang="pl-PL" sz="3200" spc="-1" strike="noStrike">
                <a:solidFill>
                  <a:srgbClr val="000000"/>
                </a:solidFill>
                <a:latin typeface="Franklin Gothic Book"/>
              </a:rPr>
              <a:t>, </a:t>
            </a:r>
            <a:r>
              <a:rPr b="0" i="1" lang="pl-PL" sz="3200" spc="-1" strike="noStrike">
                <a:solidFill>
                  <a:srgbClr val="000000"/>
                </a:solidFill>
                <a:latin typeface="Franklin Gothic Book"/>
              </a:rPr>
              <a:t>płeć społeczno-kulturowa</a:t>
            </a:r>
            <a:r>
              <a:rPr b="0" lang="pl-PL" sz="3200" spc="-1" strike="noStrike">
                <a:solidFill>
                  <a:srgbClr val="000000"/>
                </a:solidFill>
                <a:latin typeface="Franklin Gothic Book"/>
              </a:rPr>
              <a:t>, obecnie wykorzystywany do określenia </a:t>
            </a:r>
            <a:r>
              <a:rPr b="0" i="1" lang="pl-PL" sz="3200" spc="-1" strike="noStrike">
                <a:solidFill>
                  <a:srgbClr val="000000"/>
                </a:solidFill>
                <a:latin typeface="Franklin Gothic Book"/>
              </a:rPr>
              <a:t>płci kulturowej</a:t>
            </a:r>
            <a:r>
              <a:rPr b="0" lang="pl-PL" sz="3200" spc="-1" strike="noStrike">
                <a:solidFill>
                  <a:srgbClr val="000000"/>
                </a:solidFill>
                <a:latin typeface="Franklin Gothic Book"/>
              </a:rPr>
              <a:t> lub </a:t>
            </a:r>
            <a:r>
              <a:rPr b="0" i="1" lang="pl-PL" sz="3200" spc="-1" strike="noStrike">
                <a:solidFill>
                  <a:srgbClr val="000000"/>
                </a:solidFill>
                <a:latin typeface="Franklin Gothic Book"/>
              </a:rPr>
              <a:t>płci społecznej</a:t>
            </a:r>
            <a:r>
              <a:rPr b="0" lang="pl-PL" sz="3200" spc="-1" strike="noStrike">
                <a:solidFill>
                  <a:srgbClr val="000000"/>
                </a:solidFill>
                <a:latin typeface="Franklin Gothic Book"/>
              </a:rPr>
              <a:t> (w odróżnieniu od </a:t>
            </a:r>
            <a:r>
              <a:rPr b="0" i="1" lang="pl-PL" sz="3200" spc="-1" strike="noStrike">
                <a:solidFill>
                  <a:srgbClr val="000000"/>
                </a:solidFill>
                <a:latin typeface="Franklin Gothic Book"/>
              </a:rPr>
              <a:t>płci biologicznej</a:t>
            </a:r>
            <a:r>
              <a:rPr b="0" lang="pl-PL" sz="3200" spc="-1" strike="noStrike">
                <a:solidFill>
                  <a:srgbClr val="000000"/>
                </a:solidFill>
                <a:latin typeface="Franklin Gothic Book"/>
              </a:rPr>
              <a:t>, którą obecnie określa się po angielsku </a:t>
            </a:r>
            <a:r>
              <a:rPr b="0" i="1" lang="pl-PL" sz="3200" spc="-1" strike="noStrike">
                <a:solidFill>
                  <a:srgbClr val="000000"/>
                </a:solidFill>
                <a:latin typeface="Franklin Gothic Book"/>
              </a:rPr>
              <a:t>sex</a:t>
            </a:r>
            <a:r>
              <a:rPr b="0" lang="pl-PL" sz="3200" spc="-1" strike="noStrike">
                <a:solidFill>
                  <a:srgbClr val="000000"/>
                </a:solidFill>
                <a:latin typeface="Franklin Gothic Book"/>
              </a:rPr>
              <a:t>). Gender oznacza tworzony w sposób performatywny zespół cech i zachowań, ról płciowych i stereotypów przypisywanych kobietom i mężczyznom przez społeczeństwo i kulturę. </a:t>
            </a:r>
            <a:endParaRPr b="0" lang="en-US" sz="3200" spc="-1" strike="noStrike">
              <a:solidFill>
                <a:srgbClr val="4e3b3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 </a:t>
            </a:r>
            <a:endParaRPr b="0" lang="en-US" sz="3200" spc="-1" strike="noStrike">
              <a:solidFill>
                <a:srgbClr val="4e3b30"/>
              </a:solidFill>
              <a:latin typeface="Franklin Gothic Book"/>
            </a:endParaRPr>
          </a:p>
        </p:txBody>
      </p:sp>
      <p:sp>
        <p:nvSpPr>
          <p:cNvPr id="406" name="pole tekstowe 3"/>
          <p:cNvSpPr/>
          <p:nvPr/>
        </p:nvSpPr>
        <p:spPr>
          <a:xfrm>
            <a:off x="2340000" y="26028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I.     DEFINICJ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268280"/>
            <a:ext cx="8300880" cy="45259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3200" spc="-1" strike="noStrike">
                <a:solidFill>
                  <a:srgbClr val="c00000"/>
                </a:solidFill>
                <a:latin typeface="Franklin Gothic Book"/>
              </a:rPr>
              <a:t>Gender mainstriming </a:t>
            </a:r>
            <a:r>
              <a:rPr b="0" lang="pl-PL" sz="3200" spc="-1" strike="noStrike">
                <a:solidFill>
                  <a:srgbClr val="000000"/>
                </a:solidFill>
                <a:latin typeface="Franklin Gothic Book"/>
              </a:rPr>
              <a:t>rządy i inne podmioty powinny popierać aktywną i widoczną politykę włanczania kwestii kulturowej tożsamości (gender) do zasadniczego nurtu (mainstriming) wszystkich strategii i programów także nauczania, tak aby przed podjęciem decyzji była dokonywana analiza ich skutków odpowiednio dla kobiet i mężczyzn.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197000"/>
            <a:ext cx="8351640" cy="5170320"/>
          </a:xfrm>
          <a:prstGeom prst="rect">
            <a:avLst/>
          </a:prstGeom>
          <a:noFill/>
          <a:ln w="0">
            <a:noFill/>
          </a:ln>
        </p:spPr>
        <p:txBody>
          <a:bodyPr anchor="t">
            <a:normAutofit fontScale="94000"/>
          </a:bodyPr>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Franklin Gothic Book"/>
              </a:rPr>
              <a:t>   „</a:t>
            </a:r>
            <a:r>
              <a:rPr b="1" lang="pl-PL" sz="2400" spc="-1" strike="noStrike">
                <a:solidFill>
                  <a:srgbClr val="c00000"/>
                </a:solidFill>
                <a:latin typeface="Franklin Gothic Book"/>
              </a:rPr>
              <a:t>Skoro oczekuje się od nas – przynajmniej we współczesnych kulturach Zachodu – że będziemy  tacy, jak wskazuje na to nasze zachowanie, odgrywana rola nakłada na nas taki obowiązek. Jeżeli zatem nauczyciel niezmiennie oferuje dziewczętom rolę tych, które nie umieją lub nie lubią matematyki, ale są ładne, czarujące i grzeczne, chłopcom natomiast – rolę nieokrzesanych, głośnych i niegrzecznych, lecz wykazujących się bystrością – to prawdopodobnie tacy właśnie będą ”</a:t>
            </a:r>
            <a:endParaRPr b="0" lang="en-US" sz="2400" spc="-1" strike="noStrike">
              <a:solidFill>
                <a:srgbClr val="4e3b30"/>
              </a:solidFill>
              <a:latin typeface="Franklin Gothic Book"/>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4e3b30"/>
                </a:solidFill>
                <a:latin typeface="Franklin Gothic Book"/>
              </a:rPr>
              <a:t>    </a:t>
            </a:r>
            <a:r>
              <a:rPr b="1" i="1" lang="pl-PL" sz="1800" spc="-1" strike="noStrike">
                <a:solidFill>
                  <a:srgbClr val="4e3b30"/>
                </a:solidFill>
                <a:latin typeface="Franklin Gothic Book"/>
              </a:rPr>
              <a:t>— </a:t>
            </a:r>
            <a:r>
              <a:rPr b="1" i="1" lang="pl-PL" sz="1800" spc="-1" strike="noStrike">
                <a:solidFill>
                  <a:srgbClr val="4e3b30"/>
                </a:solidFill>
                <a:latin typeface="Franklin Gothic Book"/>
              </a:rPr>
              <a:t>Rothenbuhler</a:t>
            </a:r>
            <a:r>
              <a:rPr b="0" i="1" lang="pl-PL" sz="1800" spc="-1" strike="noStrike">
                <a:solidFill>
                  <a:srgbClr val="4e3b30"/>
                </a:solidFill>
                <a:latin typeface="Franklin Gothic Book"/>
              </a:rPr>
              <a:t>, Komunikacja rytualna. </a:t>
            </a:r>
            <a:endParaRPr b="0" lang="en-US" sz="1800" spc="-1" strike="noStrike">
              <a:solidFill>
                <a:srgbClr val="4e3b30"/>
              </a:solidFill>
              <a:latin typeface="Franklin Gothic Book"/>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4e3b30"/>
                </a:solidFill>
                <a:latin typeface="Franklin Gothic Book"/>
              </a:rPr>
              <a:t>Od rozmowy codziennej do ceremonii medialnej 1998/2003: 90</a:t>
            </a:r>
            <a:endParaRPr b="0" lang="en-US" sz="1800" spc="-1" strike="noStrike">
              <a:solidFill>
                <a:srgbClr val="4e3b30"/>
              </a:solidFill>
              <a:latin typeface="Franklin Gothic Book"/>
            </a:endParaRPr>
          </a:p>
          <a:p>
            <a:pPr marL="322200" indent="-322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6840" y="1413000"/>
            <a:ext cx="8435880" cy="640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00000"/>
                </a:solidFill>
                <a:latin typeface="Franklin Gothic Book"/>
              </a:rPr>
              <a:t>   </a:t>
            </a:r>
            <a:r>
              <a:rPr b="1" lang="pl-PL" sz="3600" spc="-1" strike="noStrike">
                <a:solidFill>
                  <a:srgbClr val="c00000"/>
                </a:solidFill>
                <a:latin typeface="Franklin Gothic Book"/>
              </a:rPr>
              <a:t>Równość szans</a:t>
            </a:r>
            <a:r>
              <a:rPr b="0" lang="pl-PL" sz="3600" spc="-1" strike="noStrike">
                <a:solidFill>
                  <a:srgbClr val="c00000"/>
                </a:solidFill>
                <a:latin typeface="Franklin Gothic Book"/>
              </a:rPr>
              <a:t> to </a:t>
            </a:r>
            <a:r>
              <a:rPr b="0" lang="pl-PL" sz="3200" spc="-1" strike="noStrike">
                <a:solidFill>
                  <a:srgbClr val="4e3b30"/>
                </a:solidFill>
                <a:latin typeface="Franklin Gothic Book"/>
              </a:rPr>
              <a:t>prawo do sprawiedliwego dostępu do różnych życiowych możliwości. </a:t>
            </a:r>
            <a:br>
              <a:rPr sz="3200"/>
            </a:br>
            <a:r>
              <a:rPr b="0" lang="pl-PL" sz="3200" spc="-1" strike="noStrike">
                <a:solidFill>
                  <a:srgbClr val="4e3b30"/>
                </a:solidFill>
                <a:latin typeface="Franklin Gothic Book"/>
              </a:rPr>
              <a:t>Z równością szans związany jest </a:t>
            </a:r>
            <a:br>
              <a:rPr sz="3200"/>
            </a:br>
            <a:r>
              <a:rPr b="0" lang="pl-PL" sz="3200" spc="-1" strike="noStrike">
                <a:solidFill>
                  <a:srgbClr val="4e3b30"/>
                </a:solidFill>
                <a:latin typeface="Franklin Gothic Book"/>
              </a:rPr>
              <a:t>w szczególności zakaz dyskryminacji </a:t>
            </a:r>
            <a:br>
              <a:rPr sz="3200"/>
            </a:br>
            <a:r>
              <a:rPr b="0" lang="pl-PL" sz="3200" spc="-1" strike="noStrike">
                <a:solidFill>
                  <a:srgbClr val="4e3b30"/>
                </a:solidFill>
                <a:latin typeface="Franklin Gothic Book"/>
              </a:rPr>
              <a:t>(np. ze względu na płeć, wyznanie religijne czy narodowość) gwarantowany prawami człowieka.</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1341000"/>
            <a:ext cx="8686800" cy="4738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u="sng">
                <a:solidFill>
                  <a:srgbClr val="ad1f1f"/>
                </a:solidFill>
                <a:uFillTx/>
                <a:latin typeface="Franklin Gothic Book"/>
                <a:hlinkClick r:id="rId1"/>
              </a:rPr>
              <a:t> Unia Europejska</a:t>
            </a:r>
            <a:r>
              <a:rPr b="1" lang="pl-PL" sz="3600" spc="-1" strike="noStrike">
                <a:solidFill>
                  <a:srgbClr val="4e3b30"/>
                </a:solidFill>
                <a:latin typeface="Franklin Gothic Book"/>
              </a:rPr>
              <a:t> </a:t>
            </a:r>
            <a:r>
              <a:rPr b="0" lang="pl-PL" sz="3200" spc="-1" strike="noStrike">
                <a:solidFill>
                  <a:srgbClr val="4e3b30"/>
                </a:solidFill>
                <a:latin typeface="Franklin Gothic Book"/>
              </a:rPr>
              <a:t>traktuje priorytetowo równość szans - kwestie dotyczące równości zostały zapisane w </a:t>
            </a:r>
            <a:r>
              <a:rPr b="0" lang="pl-PL" sz="3200" spc="-1" strike="noStrike" u="sng">
                <a:solidFill>
                  <a:srgbClr val="ad1f1f"/>
                </a:solidFill>
                <a:uFillTx/>
                <a:latin typeface="Franklin Gothic Book"/>
                <a:hlinkClick r:id="rId2"/>
              </a:rPr>
              <a:t>Karcie Praw Podstawowych Unii Europejskiej</a:t>
            </a:r>
            <a:r>
              <a:rPr b="0" lang="pl-PL" sz="3200" spc="-1" strike="noStrike">
                <a:solidFill>
                  <a:srgbClr val="4e3b30"/>
                </a:solidFill>
                <a:latin typeface="Franklin Gothic Book"/>
              </a:rPr>
              <a:t> a rok 2007 został ogłoszony Europejskim Rokiem Równych Szans dla Wszystkich - na rzecz sprawiedliwego społeczeństw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197000"/>
            <a:ext cx="8686800" cy="4883040"/>
          </a:xfrm>
          <a:prstGeom prst="rect">
            <a:avLst/>
          </a:prstGeom>
          <a:noFill/>
          <a:ln w="0">
            <a:noFill/>
          </a:ln>
        </p:spPr>
        <p:txBody>
          <a:bodyPr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00000"/>
                </a:solidFill>
                <a:latin typeface="Franklin Gothic Book"/>
              </a:rPr>
              <a:t>   </a:t>
            </a:r>
            <a:r>
              <a:rPr b="1" lang="pl-PL" sz="3600" spc="-1" strike="noStrike">
                <a:solidFill>
                  <a:srgbClr val="c00000"/>
                </a:solidFill>
                <a:latin typeface="Franklin Gothic Book"/>
              </a:rPr>
              <a:t>Dyskryminacja </a:t>
            </a:r>
            <a:r>
              <a:rPr b="0" lang="pl-PL" sz="3200" spc="-1" strike="noStrike">
                <a:solidFill>
                  <a:srgbClr val="4e3b30"/>
                </a:solidFill>
                <a:latin typeface="Franklin Gothic Book"/>
              </a:rPr>
              <a:t>oznacza nierówne traktowanie, prawnie nieusprawiedliwione i nieuzasadnione obiektywnymi przyczynami. Każde takie działanie stanowi naruszenie zasady równego traktowania i jest pogwałceniem podstawowych praw i wolności człowieka.</a:t>
            </a:r>
            <a:endParaRPr b="0" lang="en-US" sz="3200" spc="-1" strike="noStrike">
              <a:solidFill>
                <a:srgbClr val="4e3b3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   </a:t>
            </a:r>
            <a:r>
              <a:rPr b="0" lang="pl-PL" sz="3200" spc="-1" strike="noStrike">
                <a:solidFill>
                  <a:srgbClr val="4e3b30"/>
                </a:solidFill>
                <a:latin typeface="Franklin Gothic Book"/>
              </a:rPr>
              <a:t>Dyskryminacja jest </a:t>
            </a:r>
            <a:r>
              <a:rPr b="1" lang="pl-PL" sz="3200" spc="-1" strike="noStrike">
                <a:solidFill>
                  <a:srgbClr val="c00000"/>
                </a:solidFill>
                <a:latin typeface="Franklin Gothic Book"/>
              </a:rPr>
              <a:t>zabroniona przez prawo</a:t>
            </a:r>
            <a:r>
              <a:rPr b="0" lang="pl-PL" sz="3200" spc="-1" strike="noStrike">
                <a:solidFill>
                  <a:srgbClr val="c00000"/>
                </a:solidFill>
                <a:latin typeface="Franklin Gothic Book"/>
              </a:rPr>
              <a:t>. </a:t>
            </a:r>
            <a:r>
              <a:rPr b="0" lang="pl-PL" sz="3200" spc="-1" strike="noStrike">
                <a:solidFill>
                  <a:srgbClr val="4e3b30"/>
                </a:solidFill>
                <a:latin typeface="Franklin Gothic Book"/>
              </a:rPr>
              <a:t>Zakazuje jej zarówno wewnętrzne prawo polskie, jak i prawo Unii Europejskiej.</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21:51:45Z</dcterms:created>
  <dc:creator>Monika MCP</dc:creator>
  <dc:description/>
  <dc:language>en-US</dc:language>
  <cp:lastModifiedBy>MM</cp:lastModifiedBy>
  <dcterms:modified xsi:type="dcterms:W3CDTF">2012-09-29T13:45:57Z</dcterms:modified>
  <cp:revision>66</cp:revision>
  <dc:subject/>
  <dc:title>Slajd 1</dc:title>
</cp:coreProperties>
</file>